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DB4-6DD0-4F54-9959-A73A74C8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BA2-C830-4629-AF61-C3698CB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35F5C-258B-4BF0-90D2-3FFF67A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35B97-E9F7-4E81-B5AA-867264C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6E0D7-BABD-4445-B965-14CC618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B1B2D-1A64-48AE-86D9-EF40AC5B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5E0B9-BF39-4C87-A3ED-536C438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ACF05-A294-4F19-A21D-2EFF145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F072D-5DF2-48CA-8EA6-3529EED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A014D-238F-497E-98FA-618E3324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64CBB-5541-47ED-8DEB-42CBCFC3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86EB-2496-4AFC-8C56-9B7C11DE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A61-5CE6-4EA7-96A4-939EB984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F443A-D22A-4C30-893D-041ABEF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4802A-2DEB-4B55-9904-AB03DCE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A3D77-D0A8-4894-919B-44A757EF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CE987-D963-4524-9790-638CD276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9C12D-DB6E-4334-9EB3-142A528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029E5-E079-4F28-9AA2-71F9E88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EE3C1-BD8A-44F0-90BE-4164B72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E18FD-4660-4705-B94A-3F745469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733AF-CE76-4AE3-978D-36E5F933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126D8-D24A-4C35-9C00-B527953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6B8-D2B9-4951-90B4-8620AEBD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E018E-0EB7-49D9-8CEA-4CEEBB99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549FF-3315-4385-9D2B-65F29735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2370-48C1-4202-9E84-0588173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10915-F188-4D01-BAB9-360C819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6F04-6071-4D24-9D3D-C11E4C6B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1F4AE-AD1B-462F-BA5A-A1350C6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EB3A-E23A-4CD1-9592-9954042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3FDC-92B0-4217-93F8-2D52F70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0B39-DE59-4B4D-A95E-CAC25F3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FBF6C-837F-4708-A1C5-D0F0C11F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EA1-1C44-47F1-8C15-F7491AEF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5C1A7-3631-45DA-8AC2-2B3B1A7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3B5F-84DC-423D-9D4D-6212A41A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82287-FE52-4FB2-8D22-D2087ECD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F3555-00C7-42AA-A994-D7FEE51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DF79B-E448-4219-9C21-37319E88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8EF4F-C1A9-4308-8B92-AA39426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661BE-E893-4219-9FAA-BDC9517B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9427-84CD-4D6E-A6F7-B6691CF1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AD09E-A453-4242-9FB7-FF75F274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FD087-3148-4CD3-A23F-2DAFAB2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D68-D451-4F70-86D5-83C0A22B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F1D28-FA8E-4AC2-8C2E-FAEDBAA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7B82B-29BA-49ED-973B-C3C29F92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2777C-B6B1-4DCC-B638-6096E6E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87D1F-3095-42B1-8BC8-1A8F6E05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0FC50-91D0-4A49-B00D-73C887B1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EEE18-BED9-4EF2-9B04-62EE7A5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23B87-541D-4799-AF0D-FB941D7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6691F-8DA0-4F51-BD88-6C5C7D0C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050C7-D0CE-42B5-86F0-646111B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8B541-4C28-4743-9AA5-E62320ED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261-7486-41E6-A219-DDA9911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B2C7F-0B38-4332-AB76-0E301F0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17352-0B40-4D5B-984E-79A068B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C36C6-BA95-49C6-A083-1024BD7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60B6B-4E19-4396-A20A-FBBBE47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D8D2A-06C4-453D-A0F0-E530414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EBF3D-0333-45BA-8D24-5AEE2A25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F96E9-C7CC-4D0D-85BB-7332E32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703FB-7444-4225-BA32-8DB1C82E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CACAE-A8EC-41CF-8C0F-A35D00B0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88753-AF81-4F79-A953-2299A48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FD48-CF23-4875-8C77-8F9BD0F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76968-FA9A-4B4B-B42E-A0B122F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E9C81-DB5A-4D2E-AFBF-89729F95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E4F9B-7105-40AF-961F-B42DD0D1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39B51-9AC3-4AA9-ACF0-C557B727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E3786-9F8F-4B98-AD61-37327EF4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EB784-C87E-44A3-B6B4-CF1A306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CDE8C-AFFD-405F-AC97-2FC00D31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86300-2059-4CFB-B7D5-BB68ECC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981CB-ABA5-4C26-BB89-2CCB2BEC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E160F-CCA4-406E-88E4-5CDA5D7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3D1-6181-4790-B861-B5AC95D3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761E4-2B2D-4818-A20F-8C8663B7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95162-AC57-43FA-AF6F-7ABAF598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644FF-4E08-49E6-B047-A5489327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0CC28-8325-42DF-A17F-E125906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872D9-F5D6-4F0A-B3B1-50751B0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70A48-6F07-4C9D-A162-22BBCAE4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6F41B-D0AF-45ED-BAC8-F26FFA0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E35CB-64D1-4C71-97F1-F39291B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F4DE5-874C-4064-885C-3127741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F7BE9-034D-4E12-918E-4E33DB93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957D-90AD-4CA0-8B24-4445817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D5053-F149-47A5-853A-563015EB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5B434-C2ED-4AE0-8551-67A46A77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10A54-1862-489E-8547-5A66BDD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0595C-E772-4B28-BC2F-B467FBA3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4E6D6-7679-4EEE-9AB6-6154542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DAF61-5A69-4EEA-B612-E3D1D93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FC742-9B84-46BA-B84D-FE73A3EC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30230-0BF0-4D30-BE6A-9131F526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B7D74-1DFF-44C2-8DCB-F8300A6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00CEF-CB6A-44C8-BB7F-4ECFF6C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2DBF-EEF7-4934-8F92-42A289B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4C6E9-2C14-41E6-AE56-20E0A5AB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600FB-C0F7-443D-8AAB-35D3CA08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78284-1896-4203-A9CC-0F313F73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BEEE7-CDCD-4EE1-ADC2-CACC3AF8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4ED79-1AC5-4B7C-9054-11C5BCF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CC1FE-46B0-4756-8881-92FE2459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8E311-6875-42D6-967E-3F9EA2C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2AF88-7E63-4A35-9F23-3BAE6B4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6240F-0048-4044-BC43-47B6B25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83C59-4A73-4CF9-9EA6-2C8C4FC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F16-CBA3-4B91-9779-D529901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C850-276C-4536-AC65-63FD8E4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50BA5-F2EC-4FDF-83BC-9C9E21F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C8211-3D40-4667-AD26-2D303E3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E3D91-6ADD-413A-8610-362A3E8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8E875-8257-491F-A233-5D7BFBC2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F4118-AE35-4A20-AC6D-7457978B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ECEAB-37EA-4C2A-A58A-7212A21D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B2696-31B5-4FE3-8440-44B2E5C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43474-9390-4414-ACEB-100D3FE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C1E6E-D9BB-4701-B72E-51F98D5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D4ACD-28DA-4B6D-AC05-F4FB539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BE22-4EC2-452A-BF8F-72C6949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CD98B-95CE-49A1-975A-2B7012C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D12EA-5D8E-446A-8D7D-5D5EE098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B8424-08BB-4204-B8A4-6781B05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8DF33-25FB-402E-A073-B4A68A3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75F98-5F08-4FAE-8A9B-492494A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E6967-0396-4FBC-B39E-D89EE38A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A0A65-3C4C-47E4-9EAB-C3152108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A6200-BD70-457B-A969-44DFF747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2BE751-33A1-4CD1-B7DD-88806EDF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28A0A-18F4-45C0-B7B2-1F76A8B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D078-0FCD-4B5A-B14E-238F46DA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1EC18-98B8-41B4-B9F5-55565C1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24BB0-8C8B-4DB3-B182-CA746D0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F3FE9-3147-4C0A-ACCE-5F413CE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B0E87-FB6D-416A-8C7C-37650A5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40DFA-4EB1-407A-9FC0-971FD85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44110-A319-4364-8749-1E4DBE2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EA581-A5AB-4E21-B170-91FB5259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A8462-7780-4BBC-8D8F-9E7D266A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FEB3D-C2D9-4E6F-8EA4-B3155FDF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7270A-881E-4F5A-B430-D8956AA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CC28-D297-403F-803C-44CDFAA6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7BF85-8F11-4546-9919-DF4E5A44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00AEB-C48F-4816-B633-705F816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3DC91-AC84-417B-993B-BFBEE40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76FA5-285C-4C2A-9BDD-D9D201AF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69801-CB28-496B-81A7-86E45CF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3995A-E295-41BD-B97A-957FEABD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465B0-190A-40BC-BD39-C03BA486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91725-E4B6-4773-AF33-D814D3A0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D1D52-40A9-4C3F-AACE-A914FA0B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81929-8F33-4A15-9B41-6E7AD16C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91C7-05EB-4A9A-9AC4-56E4F830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FBA59-95A0-4C9F-84FE-CFB9017C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06A0B-BEA6-45CF-AA14-CA284093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4CFDA-80A6-4E43-B509-0A22AD9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E10B2-641A-4C21-86D3-4F51F59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34E1D-B1D7-48C8-A07E-B16962FD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3C858-2DC4-4A80-AF84-1A34521F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805C5-27F5-4068-BEFF-0E2D2CE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8843F-78F5-4505-A87B-80FB6A8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D0725-3B3A-4CF7-8FA1-37A8E7D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F9CDF-D620-426C-83E7-82576C5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94CA-DB1E-480B-9F77-B21FF56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E7C62-6EC2-49B6-A7A0-4277329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6ED2C-929B-4EE8-8157-D49055E8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797FC-CE40-4F29-BF80-80E76640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0721-00FC-4CB5-ADAD-9E287FC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2C83-7F89-43B2-AD37-113C7357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0294-C46D-4E25-8252-9D9F595C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DF18-35FC-45F8-8432-089C6CC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1AD-394A-4282-9728-04858F47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C02B-6733-48CE-9D10-EF33A48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7045-0C57-41F1-8F91-4A408FF4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73C4-390B-468E-BC5E-F656589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B1F5-F8D6-42B8-BE6B-4516603C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F1FD-BDA8-4022-8D52-F8992809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5D8C-FF05-434F-918C-34EFD9D0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1ACB-526B-4F76-8512-EDD73CAC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C5C0-DB02-4913-B81E-F191404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7309-52F8-45DA-82F2-60849604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8FE9-A5AB-46A5-9238-BCD20B48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F3D-A051-4512-AE61-8CAB2D4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6D1F-EF67-4135-A33A-D352173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94F4-18A8-4F6E-8A2C-3791146D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EB7B-D0C9-477E-9A4D-004573B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D6FF-254B-4FB9-9A71-77F6270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82C8-7598-4473-8497-AB5A706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93D9-631F-450B-B8F1-30253C4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7D5E-D5BC-4CEE-91CD-B96BEC00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98C0-021E-4F75-A223-5097E619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B026-CB51-4DE3-AF74-F5A78651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523B-2BAC-4E36-A96D-19FEF8C5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64D-4C9C-421D-BAC5-A2DD6BB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9C5F-74AE-45C8-97EA-180AB12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7F2C-DA1F-4881-89A0-6CC71CD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876E-F5A9-4454-8A3E-2953B09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A111-58D9-4133-BE85-6A7A4AE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B5F5-319F-4F4E-AB64-67884FC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18F9-798B-4CF6-B9F1-0F099C1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A4EE-E6FD-4178-AC03-611E0FB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11F83-8F8A-40E9-89D9-0D85153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B3AF-FFDE-42E0-9A09-535281A3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3704-95D6-40BF-8F69-1EFC27A8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D6B-B51F-4A89-B722-2602D80B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456F-2274-4FF9-B7B7-3259AF31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EA3D2-B1C2-4622-9F70-4885D1A8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0FE3-8A5E-4D36-A2F8-3F58AE2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7EBF5-C603-468F-8CCF-581073D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C0B1-9541-4ED1-B4D1-BA4181DB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6074-D6F7-482A-A7EA-D2069B0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75DF-F3B7-48E9-9E81-AC1020ED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FD7C-4977-408A-A511-9C5BC6B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B507-A31D-46A4-BE20-90F8B36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DC1B-CB17-403A-842C-9FE449A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413-C5EB-4109-8ADE-4214FDC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007D-170C-49D0-AC10-F7F24B6F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65D9-F951-4520-BB94-C185AAEE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7D8C-5E87-4729-9E41-0BB24FCB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C8526-B92D-40FA-98BA-C0F21425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321E-0110-476B-B815-44DB343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899A-9D3D-4B9C-BD27-62388DB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1DFE-6FC5-406F-9072-D6A2C13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5B8D9-4C90-4D1D-88B4-19281F42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7872-EAF9-49CD-8A41-099A4D7B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C738-F5C2-4E0C-A077-37F6E2E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019-C885-49C5-AE5C-A6E8EC7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2589-C020-4597-A348-268B021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5F50F-0AF9-47A5-ADCF-67067F3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D274-D512-4741-B784-2BF060F5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A128-AE40-4C05-B29C-07B66B65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1706-6C52-476F-95AF-23449917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221F-2625-4D94-A495-077F9D5F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A7472-0E49-4F03-B59E-20173C9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FE08-C70A-46E3-83C3-1FA6E2F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1E41E-9C83-435A-B9E6-95DBD29F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A8E22-0CFF-4E44-A230-B72BE571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68D-F028-46A2-8681-482157D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813EE-7405-4133-8C1F-B7C332BE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0E2B9-6BE6-4A56-87D3-0A2D72A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D3B8E-6408-444D-B257-8545C37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E18C-97F6-4A57-ADE2-70951DC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A8A1-BF7E-44F9-BF3F-5FC4B53D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81B0-FB9E-469B-800F-EA87243A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1CA6-4A4A-4032-9423-DA60CA8A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59E0-8152-4083-BF3B-32DC8834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EBE3F-EAE0-4A8E-B4F6-339FEF1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C406D-8ADC-43A2-A985-E65CF581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51A-681D-4600-A382-3982154E2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DBC-3F50-4046-A91F-7F03B92804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9C2-2EE8-4C06-B381-E5E0CB0DD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A9F8-D387-4A4A-9B24-4EC9A9F3D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B28A-CDDF-4CB3-A765-B4B7A1E69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09E-9D44-46D0-8F59-C04A61313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E010-1ED4-47B6-9BEC-88918CDF8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769-A539-4725-BF11-1078BF654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C4AF-08EF-40A0-BE9F-EC71B632F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896-80E3-46B2-BDA9-396CA7274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C9F-BB45-4553-91EE-D3294918A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D70-C00B-45F2-826C-CFDE7DD39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CB86-3454-4291-B002-50DA5DDFB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4B88-DAEC-4E03-99C0-BA6E4A553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956-D271-4A3D-BDDD-54054BA65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E25-8332-4F51-A26E-1ED33AEBE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19C-9381-48AD-B7C2-B577582D4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9DBD-A16D-434A-AF2C-B3041499D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788-6369-445D-AA6D-F90E62D94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B7BF-C38D-4854-B5E2-208A4E0F47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4C0-98DB-4841-96CA-8F4EB67F7D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2867-A92C-4141-A668-9FE9B1B07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D86-CC69-4B04-B749-1641EA996D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244B-4A37-4B17-8C0B-CA4A6F4F6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5913-6952-426D-AC1E-DECFDD9287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4BBF-CE33-4060-B156-07144F8BF7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B498-4B64-405E-9494-649892384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FEB-CB0E-47FC-9061-64288E5C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3EA-751D-4EE3-8DEA-28BBF5B49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01EC-AC73-42F8-8BE5-A30C2C0CC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FB4-8E35-43F1-BE27-B306326AE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A06-A1A3-472A-A27C-3DE9FE7F1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3A2-A49A-4557-92F9-55C96F28D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3E2-9C47-4010-9ABC-622903E9C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F05-103B-4A92-BE2C-4803008F6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4E5-3D7A-4F6C-A682-7A85237FE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43E-ACDA-4FE3-BD0F-9BDF5472B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115-8ED8-4995-84BC-D8DBF1F65C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B0A-F797-4E77-ACFE-E67589F83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350-257C-4DB2-A464-702673E93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390760" y="3048120"/>
            <a:ext cx="4362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47840" y="1305000"/>
            <a:ext cx="8248320" cy="42480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285920" y="135720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6786720" y="1857240"/>
            <a:ext cx="12142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857240" y="2857680"/>
            <a:ext cx="10717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6715080" y="28576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5240160" y="334332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1714680" y="4332240"/>
            <a:ext cx="92844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76280" y="981000"/>
            <a:ext cx="819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9040" y="1023840"/>
            <a:ext cx="83059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14440" y="1252440"/>
            <a:ext cx="8115120" cy="43531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857160" y="128592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857160" y="17859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27147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928800" y="32860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857160" y="371484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857160" y="471492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66640" y="1714680"/>
            <a:ext cx="8010720" cy="34290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17859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928800" y="27147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928800" y="371484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928800" y="42148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38120" y="971640"/>
            <a:ext cx="8267760" cy="4914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571680" y="5929200"/>
            <a:ext cx="5143320" cy="5716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2643120" y="29289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2928960" y="485784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57200" y="728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1857240" y="71424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6215040" y="321480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1714680" y="51436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00100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28760" y="809640"/>
            <a:ext cx="8258040" cy="60483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7143840" y="400068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5203800" y="4486320"/>
            <a:ext cx="1928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3857760" y="500076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5072040" y="5500800"/>
            <a:ext cx="100008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4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